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A9F-E710-417D-9CC8-9BB63011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212E-B372-4D91-B660-C24A5619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D15-F16D-4BEB-967C-7F7D6B56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054-364E-4426-816B-C7D58A9A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7BE3-2755-47C5-98FE-C58CCD8C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7316-6E24-49A9-9123-7FE826C4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F421-FF5F-4807-92D8-C7193892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2F4B-D43C-4901-A550-5A2D2A94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D999-8F75-4DFE-BCC5-98F6263F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0CC2-9FE2-4467-93FD-4E03D794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372F-CF81-4B32-B737-08FF0EF5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598-EB57-484B-9408-7D206180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66C2-70E1-4790-88E8-3B2BD539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C419-A3B8-4D68-8088-C8996090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1C2F-180A-48A3-A7A5-C8BB4A45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A519-D646-4114-A32B-445B64C3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9632-6F54-416A-9CB4-430610C4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93E-4B8F-4CED-B7F0-0B7D2E4C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958-B575-408A-9CD5-8F659D33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1A4-0A3B-4E23-B0F0-971C9055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5E8-0AC8-4CE2-912F-CF333233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D19-877C-48C6-8FA6-1A05BAF4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609-DA67-423D-8A9A-60FA93E3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EB33-C78D-4407-9D89-D21DEB1E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6A36-351F-4ADD-A6A0-D6D0BAAE8FE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C3B3-456F-4AF3-83EE-1211154F319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Unit 1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ki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m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e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c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ma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i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e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dep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raf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a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gr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f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wit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derst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uzz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ntas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skilful (skillfu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ontest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gici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app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uzz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tisf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eam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fie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seba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mp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d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ortsto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ttitu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a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orebo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-ope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udspeak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ighl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ubhou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refre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pbo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utloo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oughhou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mpi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eep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rim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rterba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uchdow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r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igh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cau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ssi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re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a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s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a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nci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u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ar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ncip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a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verd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ation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sista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u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n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ort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e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ub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mp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cess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ourse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rtain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rrig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-ope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lur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rpr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is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ttitu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cau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tisf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lphab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tt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ict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bra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i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yst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ach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n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anch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g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la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ousa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dr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el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msel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ntu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nounc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ctiona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angua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brari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u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okshel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esn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ou’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nal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ag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y’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ayers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udents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feree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otba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cc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oalie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j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ouldn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udent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e’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ayer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asn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ponents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stn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fess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ld’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mate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quads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23920" y="1447920"/>
            <a:ext cx="4038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hib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ffic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t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CA" sz="2400" spc="-1" strike="noStrike">
                <a:solidFill>
                  <a:srgbClr val="ffffff"/>
                </a:solidFill>
                <a:latin typeface="Arial"/>
                <a:ea typeface="Arial"/>
              </a:rPr>
              <a:t>dial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vers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buClr>
                <a:srgbClr val="ffffff"/>
              </a:buClr>
              <a:buFont typeface="Arial"/>
              <a:buAutoNum type="arabicPlain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er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buClr>
                <a:srgbClr val="ffffff"/>
              </a:buClr>
              <a:buFont typeface="Arial"/>
              <a:buAutoNum type="arabicPlain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nefi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tifi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c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390680"/>
          <a:ext cx="3809880" cy="4827600"/>
        </p:xfrm>
        <a:graphic>
          <a:graphicData uri="http://schemas.openxmlformats.org/drawingml/2006/table">
            <a:tbl>
              <a:tblPr/>
              <a:tblGrid>
                <a:gridCol w="907920"/>
                <a:gridCol w="2901960"/>
              </a:tblGrid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uldn'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leph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ee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u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wnershi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ffi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at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6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e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t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auti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ce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oadca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ve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ertis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pe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ftn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0" y="11430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muse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glin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ndl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waren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rgu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ucki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uzzin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lourful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ransmis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ssign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tionl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videotap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7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ang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t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dy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blish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id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tisfy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llustr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ract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llustra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e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uckl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n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r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logu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otocop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ndic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rrif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tisf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8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dr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iend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ffi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ict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c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hib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rgu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ntu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esn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ract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rri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verti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lphab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g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llustr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auti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ag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feree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Unit 19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i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l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ut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lamm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ragg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fer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t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idd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me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ns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ipp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gin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n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abb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rmit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get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ga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aphrag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er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velop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llumina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os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o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le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lar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nect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ne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tre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pup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u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v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e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o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3. strok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4. mig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5. wide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6. st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7. esca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8. priz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9.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mig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. cyc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1. frag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2.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metamorph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3. spec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4. pupa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nadi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m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pir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sent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ufac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gr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nqu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garl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lec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lic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n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c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yr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meric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nti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xic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comme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n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finite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uarante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pperm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i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urch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u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is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i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ltip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alu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rs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and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i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h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rren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l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n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posi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ci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im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t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pecul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zz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amo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ll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lit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w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r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ick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ys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igi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illi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unn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ill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ol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era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u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li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r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vinc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dent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tahedr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ag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re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at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st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ut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g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ampi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tt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nk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sta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ink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gg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ain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rk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et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echniq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m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llu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ngth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ut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nqu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w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sta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ufac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igi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at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amo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i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yrup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ns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ink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illi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gin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get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lic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lla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ys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alu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get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ar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eas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sid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gnor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p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rthl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sh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eath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ash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spon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rv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fort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ell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lt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os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rge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leg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mor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n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uxu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min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flamm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6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rag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erv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errif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pleas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cre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fu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humor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fail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pian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less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myste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sign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or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drama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se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cul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domes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cu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piani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octa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acoust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ambit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courage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leis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7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pa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s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t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refoo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vant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nd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rri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ttra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labo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ver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tun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l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pe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ff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ress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t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or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ccasi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ugg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for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ggress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n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8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et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dus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bin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ff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gredi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ocol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co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n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a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d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d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mi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stru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ribu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d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arv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ced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lan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f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pet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nov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9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ienti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l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va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lo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ro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en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men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li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fu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tro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arthquak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is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ru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ag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a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fes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spen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vi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u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gne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i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ca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int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twe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propell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ee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as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ce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sh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le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fre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scur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3. displ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4. real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5. slei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6. hur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7. wei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8. b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9. eigh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. mainten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1.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terr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2. hovercraf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3. reason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4.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veloc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Unit 29 – Adventures With Word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 2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o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v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4724280" y="1676520"/>
            <a:ext cx="3962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et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pe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rri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ocol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ell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sid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rge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gredi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pa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os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ste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co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eas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s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tro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e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errif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get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ttra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bstitu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eri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ch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por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fe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vi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bmar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lai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nat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t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btra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ens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ru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par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fe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eeseburg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te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bstand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ept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dishon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l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sou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unexci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disappo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unpopul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wei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ravell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au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disagre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lis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unpa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cour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sici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e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know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a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iol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chest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believ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fortunate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qualifi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obed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nt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fe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gr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fess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r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vi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appe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ntas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nde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gli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di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hy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wri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p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den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hyth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fic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f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adju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ssion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unemploy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enn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cal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eighb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Fren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ewfoundl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se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kno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z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ine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gar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uesd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ri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dmont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e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grace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happi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depend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ederict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et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natu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cre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uv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urna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ru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uesd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s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i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hy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appo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o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unexci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musici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wor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ine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independ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au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whe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po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eighb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lie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eav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lo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ie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w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o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r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o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e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lie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w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s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ho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e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igh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t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soapsto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sculp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rrow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light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ief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oax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it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ol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d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rto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nuis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oo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o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ve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ui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o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hu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onsum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gi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lu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r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lu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ud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portun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newslet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pursu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pu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ofre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6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e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ce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al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lei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uis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ur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e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ct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e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1. belie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2.frigh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3.on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4.who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5.bom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6.esca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7.wei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8.b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9. thr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. chu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7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orb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par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park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l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mu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i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ard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ort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ourse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gn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for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bsor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w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war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te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rad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astronom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mourn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onstell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8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ert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i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rg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n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u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r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e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cess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ser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rrig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le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e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rtain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tter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rpr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lur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wir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urd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a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atte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urrow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rviv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ctur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quir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9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noy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rown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i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o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we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ploy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vo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wer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is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ub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ck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ng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ou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o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joy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oin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nd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co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yal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ycot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ow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8</cp:lastModifiedBy>
  <dcterms:modified xsi:type="dcterms:W3CDTF">2011-09-08T13:09:2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